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5DF4311-7F6E-4A7A-852F-615F403CA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EE40E2D-5849-40C7-8D26-A224D311D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lcome and introductions – name, position, board 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8087800-D836-49E8-9AC9-2BA40615C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4252094-7D85-4DC1-8FBE-FC6EE1F1E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A285F1F-A548-41D4-8F25-3981459E6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C37D455-3707-4DB4-BC0E-8D5BC1B3C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1405D80-B2FA-44BE-BC1E-5FAA12CB3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8028275-AF86-4336-B0D4-C6720AB61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8C0D99E-40F9-4108-A85C-900B069D4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 our strategy: using popsicle st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ADCEA38-0A9D-45F3-B711-BDE3391FA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787BC26-5792-4779-80DF-ED4DEC7A7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eprese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onnec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Selecting tools and computational strate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F72C811-166A-4474-9A46-96031AECA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7A813BB-7311-473C-AE5F-1E1FCA1F5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B206-9351-426E-B748-2C8B24C4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32C5-95AC-4540-A3A5-224F979F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3920-A920-4C4B-8AA9-0EC6E73EA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D07C-E947-4E7C-BB5C-8D1CCE295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A6B4-4BEC-45DF-90FA-EAAC300CE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F453-6076-4618-8A35-127CCCD4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024A-9BFD-4443-834B-8F544A0E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D171-1462-4E25-B83F-12F0E259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1081-C358-4391-B7A3-417A43B4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9953-BA91-4C09-B226-9026E756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CAE0-9403-4A48-83FD-DDEB5051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72FE-5D68-4F09-BF28-D8AFDB7C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E049-554D-4AC3-9A6D-AD72D549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0F09-ED0D-47E4-9FE8-1089EB1E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4CC2-4853-45D2-BE85-883ADB30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5CAD-A42C-453A-8A0C-52ADB6C5D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15FB-1441-4F93-8ADA-C17E802CB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F521-1548-4340-A014-7777FD5C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F305-C4F9-49FB-8342-DD906ABF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AD8F-AA25-4A22-BCA7-4C3C8825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2301-8597-420A-B53B-B37ED704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29F4-0EE2-4279-9643-8A14BDFF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B2F8-2961-496D-9BC5-F8F2E42F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93BB-B468-49F5-A421-8271F664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3BF5-B8A0-4E33-AFCF-FE89D05E8C0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E204-0371-4FF3-A31A-414DCD93D01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GAINS_Globe_70smws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8415-156A-4CAE-B31C-16BE62DAB37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159984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Linear Growing Patterns &amp; Relations</a:t>
            </a:r>
            <a:br>
              <a:rPr sz="4400"/>
            </a:b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Session 1</a:t>
            </a:r>
            <a:br>
              <a:rPr sz="44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42840" y="4055760"/>
            <a:ext cx="5715000" cy="128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entury Gothic"/>
              </a:rPr>
              <a:t>Summer In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entury Gothic"/>
              </a:rPr>
              <a:t>August 25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2743200" y="5867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entury Gothic"/>
              </a:rPr>
              <a:t>Kaye Apple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entury Gothic"/>
              </a:rPr>
              <a:t>Silvana Sim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3DE6-5EBA-4D8D-8633-4F3933BF78C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3552840" y="990720"/>
            <a:ext cx="3838680" cy="54864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380880" y="2901960"/>
            <a:ext cx="297828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entury Gothic"/>
              </a:rPr>
              <a:t>The Important Boo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by Margaret Wise B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06A2-96A8-4798-B02E-16A97E66854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Important Boo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Make a ‘hot dog’ paper fol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Make a ‘hamburger’ paper fol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Fold again in this dire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Open paper; make ‘hamburger’ fol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With folded edge along the top, tear along the vertical crease until the horizontal li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Open paper; make hotdog fold; push towards centre to join edg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Fold to form a book of 8 pag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3E35-BDC2-4360-A9E2-FD418E01A3D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Label Pag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Page 1- Cover:  </a:t>
            </a: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The Important Boo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Page 2- </a:t>
            </a: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Big Ide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Page 3- </a:t>
            </a: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Linear Patterns &amp; Relations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Page 4- </a:t>
            </a: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Plann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Page 5- </a:t>
            </a: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Open Ques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Page 6- Parallel Task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37FD-4566-41F4-9B16-6DA527FCCC9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The Important Boo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The important things about Linear Patterns &amp; Relations I learned today are 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•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•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•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5391-3617-443F-BD4B-FDFE06B6B34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Sessi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6000" indent="0">
              <a:lnSpc>
                <a:spcPct val="9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• 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Develop an Understanding of how the Big Ideas from Patterning to Algebraic Reasoning connect to Linear Func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312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Connect the Mathematical Processes to the Big Ideas               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312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Provide Differentiated Instructio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312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Effective Use of Technology and Manipulativ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312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Questioning to Evoke and Expose Think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312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Build a Math-Talk Learning Community (fearless speaking and listening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312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Provide Assessment for Learning Opportunit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312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Have Fun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A37C-B26E-41A6-ACDF-2970312B710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Group Norm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0">
              <a:lnSpc>
                <a:spcPct val="100000"/>
              </a:lnSpc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Aft>
                <a:spcPts val="1049"/>
              </a:spcAft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All ideas will be listened to carefully and responded to respectfully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Aft>
                <a:spcPts val="1049"/>
              </a:spcAft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Everyone will have a voic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Aft>
                <a:spcPts val="1049"/>
              </a:spcAft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All suggestions will be presented with the intent to move the collective forward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Aft>
                <a:spcPts val="1049"/>
              </a:spcAft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Clarifying questions are welcom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Aft>
                <a:spcPts val="1049"/>
              </a:spcAft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Everyone will engage fully in the momen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EC23-662D-44B3-81F0-5357A69AE6E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7711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Meet and Gree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04" name="Picture 4" descr="MCj04350450000[1]"/>
          <p:cNvPicPr/>
          <p:nvPr/>
        </p:nvPicPr>
        <p:blipFill>
          <a:blip r:embed="rId1"/>
          <a:stretch/>
        </p:blipFill>
        <p:spPr>
          <a:xfrm>
            <a:off x="2813040" y="3535200"/>
            <a:ext cx="3602160" cy="27673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625320" y="1963800"/>
            <a:ext cx="78933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Share a strategy you have used or would like </a:t>
            </a:r>
            <a:br>
              <a:rPr sz="2100"/>
            </a:b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to use in the first week of class to help </a:t>
            </a:r>
            <a:br>
              <a:rPr sz="2100"/>
            </a:b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students feel comfortable with sharing </a:t>
            </a:r>
            <a:br>
              <a:rPr sz="2100"/>
            </a:b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and talking about mathematics in your classroo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607C-C138-495B-911D-2048E2A9575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Big Ideas from Patterning </a:t>
            </a:r>
            <a:br>
              <a:rPr sz="4400"/>
            </a:b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to Algebraic Reasoning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75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7520" indent="-227520">
              <a:lnSpc>
                <a:spcPct val="8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Algebraic reasoning is a process of describing and analyzing (e.g., predicting) generalized mathematical relationships and change using words and symbol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75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3399"/>
                </a:solidFill>
                <a:latin typeface="Century Gothic"/>
              </a:rPr>
              <a:t>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27520" indent="-227520">
              <a:lnSpc>
                <a:spcPct val="8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Comparing mathematical relationships helps us see that there are classes of relationships and provides insight into each member of the cla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75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3399"/>
                </a:solidFill>
                <a:latin typeface="Century Gothic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27520" indent="-227520">
              <a:lnSpc>
                <a:spcPct val="8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Different representations of relationships (e.g. numeric, graphic, geometric, algebraic) highlight different characteristics or behaviours, and can serve different purpos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75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3399"/>
                </a:solidFill>
                <a:latin typeface="Century Gothic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27520" indent="-227520">
              <a:lnSpc>
                <a:spcPct val="8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Limited information about a mathematical relationship can sometimes, but not always, allow us to predict other information about that relationship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0A72-E94D-46FD-B03C-D9533F7F0BB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3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Big Ideas for </a:t>
            </a:r>
            <a:br>
              <a:rPr sz="4400"/>
            </a:b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Linear Patterns &amp; Rela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8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8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Wingdings"/>
                <a:ea typeface="Wingdings"/>
              </a:rPr>
              <a:t>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Describing the relationship between two things as a pattern is a foundation to algebraic reasonin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80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28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Wingdings"/>
                <a:ea typeface="Wingdings"/>
              </a:rPr>
              <a:t>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The mathematical structure of a linear growing pattern can be represented in different ways (e.g., numeric, graphical, geometric, algebraic).  Different representations highlight different characteristics and can serve different purpos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80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28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Wingdings"/>
                <a:ea typeface="Wingdings"/>
              </a:rPr>
              <a:t>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Linear growing patterns can be distinguished from other patterns by the way they grow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80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28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Wingdings"/>
                <a:ea typeface="Wingdings"/>
              </a:rPr>
              <a:t>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Two pieces of information about a linear growing pattern can be sufficient information to fully describe the pattern or func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4B8F-D4FE-478A-BD3B-DE1F1D12AAF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192320" y="1479600"/>
            <a:ext cx="6924600" cy="53784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Mathematical Process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6815-63A4-4ED2-BE6D-F5A1EF435E9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Matching Activity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For each question, identify the </a:t>
            </a:r>
            <a:br>
              <a:rPr sz="2100"/>
            </a:b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Big Idea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 that it is associated </a:t>
            </a:r>
            <a:br>
              <a:rPr sz="2100"/>
            </a:b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with and post on chart pape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 rot="1066800">
            <a:off x="512280" y="3428640"/>
            <a:ext cx="1936800" cy="2541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5835600" y="1949400"/>
            <a:ext cx="2836800" cy="42703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2174040" y="4886280"/>
            <a:ext cx="3861360" cy="734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02a00"/>
                </a:solidFill>
                <a:latin typeface="Century Gothic"/>
              </a:rPr>
              <a:t>Be ready to defend th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02a00"/>
                </a:solidFill>
                <a:latin typeface="Century Gothic"/>
              </a:rPr>
              <a:t>highlighted question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68F2-50DF-464E-A5F0-D122DAFA2B9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8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Connecting Questions </a:t>
            </a:r>
            <a:br>
              <a:rPr sz="4400"/>
            </a:b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to Big Idea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Pick one question you liked (BLM LGP 1.1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Which Big Idea does it fit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Go into four corners for Big Ide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Identify your question and complete the statement:</a:t>
            </a:r>
            <a:br>
              <a:rPr sz="2100"/>
            </a:b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“</a:t>
            </a: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I think this question fits most closely with this Big</a:t>
            </a:r>
            <a:br>
              <a:rPr sz="2100"/>
            </a:b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Idea because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…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Now determine which expectations (BLM 1.2) connect to your Big Ideas.  Complete the statement:</a:t>
            </a:r>
            <a:br>
              <a:rPr sz="2100"/>
            </a:b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“</a:t>
            </a: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The connection(s) I see between the overall </a:t>
            </a:r>
            <a:br>
              <a:rPr sz="2100"/>
            </a:b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expectations and this  Big Idea is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 …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1:11:23Z</dcterms:created>
  <dc:creator>Myrna Ingalls</dc:creator>
  <dc:description/>
  <dc:language>en-US</dc:language>
  <cp:lastModifiedBy>Anthony</cp:lastModifiedBy>
  <dcterms:modified xsi:type="dcterms:W3CDTF">2009-08-24T05:18:47Z</dcterms:modified>
  <cp:revision>145</cp:revision>
  <dc:subject/>
  <dc:title>Math GAINS 2008-09</dc:title>
</cp:coreProperties>
</file>